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C39-DFF7-4025-BDFC-366558A3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233-0D37-4CB8-A3B3-CE8D3394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2F7-9427-4123-94F3-F607CBA8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C83-F566-49B0-B627-6D518CB1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7AC-3734-4B06-BD16-647AED6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65A-FBDD-4568-9323-1480C16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F70-39AD-4A46-A2D6-C8FA86C5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608-BD10-4F58-864B-887133A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C15-72DE-48F6-8EBB-C4F65AC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DF6-ABA6-46C4-82B0-D29CD8D8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8DB-EE66-49E7-9399-97E445B3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9A4-F955-42A3-98A3-6B944DD7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220-6B2E-4FE3-BDD6-ED1EA0E7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Elements of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063400">
            <a:off x="1295280" y="2819160"/>
            <a:ext cx="47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Li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45720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280" y="2514600"/>
            <a:ext cx="1370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98760" y="457200"/>
            <a:ext cx="4319640" cy="5715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1504800"/>
            <a:ext cx="8534160" cy="3848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731880"/>
            <a:ext cx="5943600" cy="5535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647640"/>
            <a:ext cx="5639040" cy="5564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803160"/>
            <a:ext cx="6782040" cy="5079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7661" t="28129" r="28879" b="33381"/>
          <a:stretch/>
        </p:blipFill>
        <p:spPr>
          <a:xfrm>
            <a:off x="380880" y="762120"/>
            <a:ext cx="8458200" cy="5616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6535" t="27130" r="28879" b="33381"/>
          <a:stretch/>
        </p:blipFill>
        <p:spPr>
          <a:xfrm>
            <a:off x="909720" y="641520"/>
            <a:ext cx="7400880" cy="4914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753160" cy="39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715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         Strength       Do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402732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304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523880"/>
            <a:ext cx="2057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746520" cy="419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733920" cy="302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228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5943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       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05160" cy="404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304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5638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314520" cy="3011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76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ig Za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5334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os     Fren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91320" cy="406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880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ke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5791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he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0:06Z</dcterms:created>
  <dc:creator>Patrick J. Mooney</dc:creator>
  <dc:description/>
  <dc:language>en-US</dc:language>
  <cp:lastModifiedBy>Patrick J. Mooney</cp:lastModifiedBy>
  <dcterms:modified xsi:type="dcterms:W3CDTF">2012-01-05T03:14:04Z</dcterms:modified>
  <cp:revision>9</cp:revision>
  <dc:subject/>
  <dc:title>Slide 1</dc:title>
</cp:coreProperties>
</file>